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B8A-20A9-4EEE-BDF2-02850773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639-3C4C-4436-B4E2-66B8DCEA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CBA-457F-4A50-A312-3B1E34B9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7AA-681A-4CAF-B576-FFF4AA1E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CB0-370C-4A81-AC16-3E0F88C3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742-6F78-4078-A3DC-18878430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3CA-5A00-4FA6-BA12-86DE8C7A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DDE-B215-4650-9BDD-88FF55E5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6B2-8571-4405-ABD0-9F30B8F4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B59-B7B5-442B-A6EE-3C54F2A7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F8A-85BE-44BE-9F7A-2A5DD810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88F-556F-4150-9790-9980A51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8AD6-3988-4BDE-AD50-6F2D90595A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42A76404-646F-4650-A9FE-7875F66008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840" y="1500120"/>
            <a:ext cx="857232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y' or ‘town’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ολ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ολεω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king' i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βασιλε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βασιλεω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3232080"/>
          <a:ext cx="7342200" cy="2468520"/>
        </p:xfrm>
        <a:graphic>
          <a:graphicData uri="http://schemas.openxmlformats.org/drawingml/2006/table">
            <a:tbl>
              <a:tblPr/>
              <a:tblGrid>
                <a:gridCol w="1486080"/>
                <a:gridCol w="1371600"/>
                <a:gridCol w="1014120"/>
                <a:gridCol w="1592280"/>
                <a:gridCol w="187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ολε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σιλευ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6171280B-28B8-42D4-8497-F87A5487A5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55640" y="1560600"/>
          <a:ext cx="5803920" cy="2468520"/>
        </p:xfrm>
        <a:graphic>
          <a:graphicData uri="http://schemas.openxmlformats.org/drawingml/2006/table">
            <a:tbl>
              <a:tblPr/>
              <a:tblGrid>
                <a:gridCol w="1005120"/>
                <a:gridCol w="1795320"/>
                <a:gridCol w="1687680"/>
                <a:gridCol w="131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ι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31"/>
          <p:cNvSpPr/>
          <p:nvPr/>
        </p:nvSpPr>
        <p:spPr>
          <a:xfrm>
            <a:off x="1986120" y="4473720"/>
            <a:ext cx="5138640" cy="147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the breathings -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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one)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in);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one) 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int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5886E9AE-D3DA-4995-A6EB-2158BC78DE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714680" y="107172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δεις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δεις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'no one, nothing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80920" y="1598760"/>
          <a:ext cx="7358040" cy="2225520"/>
        </p:xfrm>
        <a:graphic>
          <a:graphicData uri="http://schemas.openxmlformats.org/drawingml/2006/table">
            <a:tbl>
              <a:tblPr/>
              <a:tblGrid>
                <a:gridCol w="1252800"/>
                <a:gridCol w="2235240"/>
                <a:gridCol w="2100240"/>
                <a:gridCol w="1769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27040" y="4000680"/>
          <a:ext cx="62881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904760"/>
                <a:gridCol w="1791000"/>
                <a:gridCol w="152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597E37F6-8531-414F-A82F-C364F12AED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2920" y="114300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reek, a sentence is either negative, or not; unlike in English, two negatives do not make a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3.32: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περι δε της ἡμερας ἐκεινης ἠ της ὡρας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ὐδει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ἰδεν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he knows]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ἱ ἀγγελοι ἐν οὐρανῳ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ὁ υἱος, εἰ μη ὁ πατηρ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ut about that day or hou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 o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nows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ith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ls in heaven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on, but only the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4.60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ὐκ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ἀποκρινῃ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δ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;                                  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Do you repl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o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76040" y="1500120"/>
            <a:ext cx="861084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two patterns are very similar – in particular having the distinctive gen. singular in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nom. and acc. plurals in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ι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The main difference between them is in the acc. singular (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nk of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s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ε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then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ο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ending is correct for th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declen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nother pattern of words which have stems ending in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 However, there only word in this family which is at all common, 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ἰχθυς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and even that only occurs 20 times in the New Testament. Its endings are the same as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ἀστηρ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ept for the accusative singular: 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ἰχθυς,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Arial"/>
              </a:rPr>
              <a:t>ἰχθυν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, ἰχθυος, ἰχθυ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Arial"/>
              </a:rPr>
              <a:t>ἰχθυες, ἰχθυας, ἰχθυων, ἰχθυσι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A63EBA81-ADFB-4518-9C2F-CB37A8E2B0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DF6A851A-A5EE-4733-9E9D-01B9631D9B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92080" y="1817640"/>
            <a:ext cx="7353360" cy="33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't worry too much about these nou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y are not particularly common,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 most of their forms are close enough to either the 1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r the 3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declension endings in the appropriate case and number, that you can normally guess them correctl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705040" y="112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.2.1 Nou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28880" y="1765440"/>
          <a:ext cx="7099200" cy="4343400"/>
        </p:xfrm>
        <a:graphic>
          <a:graphicData uri="http://schemas.openxmlformats.org/drawingml/2006/table">
            <a:tbl>
              <a:tblPr/>
              <a:tblGrid>
                <a:gridCol w="1212840"/>
                <a:gridCol w="798480"/>
                <a:gridCol w="1174680"/>
                <a:gridCol w="1538280"/>
                <a:gridCol w="11736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of getting the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4CD1107F-205D-4B45-AE71-51B658158B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B9DDC2FA-F90C-4569-A35F-5EF22FEB584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1527120"/>
          <a:ext cx="8001000" cy="3916440"/>
        </p:xfrm>
        <a:graphic>
          <a:graphicData uri="http://schemas.openxmlformats.org/drawingml/2006/table">
            <a:tbl>
              <a:tblPr/>
              <a:tblGrid>
                <a:gridCol w="907920"/>
                <a:gridCol w="798480"/>
                <a:gridCol w="1494000"/>
                <a:gridCol w="1828800"/>
                <a:gridCol w="1371600"/>
                <a:gridCol w="1600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/ Feminin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ying 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262"/>
          <p:cNvSpPr/>
          <p:nvPr/>
        </p:nvSpPr>
        <p:spPr>
          <a:xfrm>
            <a:off x="1409760" y="10382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.2.2 Adjec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3"/>
          <p:cNvSpPr/>
          <p:nvPr/>
        </p:nvSpPr>
        <p:spPr>
          <a:xfrm>
            <a:off x="176040" y="557208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t is only the acc. plural masculine/feminine which is peculiar, i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pying the nom. when one might expect some contraction of –</a:t>
            </a:r>
            <a:r>
              <a:rPr b="0" lang="el-GR" sz="2100" spc="-1" strike="noStrike">
                <a:solidFill>
                  <a:srgbClr val="000000"/>
                </a:solidFill>
                <a:latin typeface="Gentium"/>
              </a:rPr>
              <a:t>εα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57120" y="1392120"/>
            <a:ext cx="82155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ecline a word such a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you needs to know four pieces of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mascul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neuter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genitive (or stem) for the masculine &amp; ne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feminine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once we know the nom. sing.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σ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stem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ντ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e can deduce the rest of the declen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529DA6BF-F849-4821-A0B7-F7119D3F05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69D5A1E0-B180-4DC9-A605-69C04EFAB3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41200" y="1285920"/>
          <a:ext cx="8643960" cy="4937040"/>
        </p:xfrm>
        <a:graphic>
          <a:graphicData uri="http://schemas.openxmlformats.org/drawingml/2006/table">
            <a:tbl>
              <a:tblPr/>
              <a:tblGrid>
                <a:gridCol w="1330560"/>
                <a:gridCol w="1171440"/>
                <a:gridCol w="2192400"/>
                <a:gridCol w="2062080"/>
                <a:gridCol w="188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α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0240" y="1098720"/>
            <a:ext cx="914400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its own; masculine = person/man; feminine = woman;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uter = th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John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3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παντα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δι’ αὐτου ἐγενετο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ll th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came to be through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6.50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παντες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 γαρ αὐτον εἰδο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veryon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aw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can occur with a noun without an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att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7.17: </a:t>
            </a:r>
            <a:r>
              <a:rPr b="0" lang="el-GR" sz="2500" spc="-1" strike="noStrike" u="sng">
                <a:solidFill>
                  <a:srgbClr val="000000"/>
                </a:solidFill>
                <a:uFillTx/>
                <a:latin typeface="Gentium"/>
              </a:rPr>
              <a:t>παν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δενδρον ἀγαθον καρπους καλους ποιει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ood tree produces good fruit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9EB9D8E4-DBD5-4695-8125-8F84398B5A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:Grammar </a:t>
            </a:r>
            <a:fld id="{83D95DB8-68EC-48B7-9FF3-0BAEE02DA4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7320" y="1214280"/>
            <a:ext cx="87724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· It can occur with a noun with the article, in which case it normally stands in the predicative positive (i.e. before the 'the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 14.53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ρχοντ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παντε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οἱ ἀρχιερ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chief priests g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·  It can occur with the article and partici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John 5.1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</a:rPr>
              <a:t>πα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ὁ πιστευων ὁτι Ἰησους ἐστιν ὁ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ριστο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veryo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o believes that the Messiah i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0:11:56Z</dcterms:created>
  <dc:creator>Sarah</dc:creator>
  <dc:description/>
  <dc:language>en-US</dc:language>
  <cp:lastModifiedBy>Sarah</cp:lastModifiedBy>
  <dcterms:modified xsi:type="dcterms:W3CDTF">2009-07-11T00:15:49Z</dcterms:modified>
  <cp:revision>27</cp:revision>
  <dc:subject/>
  <dc:title>Slide 1</dc:title>
</cp:coreProperties>
</file>